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5D3-6514-4B60-A2ED-839E845A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6CF-FC78-4FBA-825E-8061847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10D-988E-4919-AD7F-E2269BF7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1CC-F6F7-47C5-9329-33C3C634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D55-7017-4B5F-A17B-B4682BA6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AAD-3670-42FB-8A2A-072E5C1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473-FDA3-43B0-9210-8F8B41D2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FB2-00A2-4FAC-AA4B-AFDDBB9A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01B-54B8-409B-9CF2-F89BC6E4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B75-4FF7-4FE4-B2FB-EDA1B29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845-8338-465E-B650-1BE892C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C5E-7F88-4C67-B9FD-CD9D40CB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88A0-5D6C-4CCA-AF0E-7808CB06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492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ree equations in slope-intercept form, the students will graph the lines using a T-chart. Then they will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the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slope found in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the line cross the y-ax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y-value of the point when x=0? (This is the y-intercep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y-value found in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this form of the equation is called the “slope-intercep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492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ggling Lear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,-3), (1,1), and (3,5), the students will plot the points and sketch the line. Then they will answer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lope of the 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line cross the y-ax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equation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ents working on this particular task should repeat this process given two or three more points and/or a point and a slope. They will then create an explanation for how to graph a line starting with the equation and without finding any points using a T-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3492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de-Level Lear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equation of a line in slope-intercept form (or several equations), the students in this group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lope in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y-intercept in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y-intercept in coordinate form (0,y) and plot the point on the y-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lope to find two additional points that will be on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tudents have completed the above tasks, they will summarize a way to graph a line from an equation without using a T-cha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3320" y="1476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79200"/>
            <a:ext cx="77724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ced Lear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iven the slope-intercept form of the equation of a line, y=mx+b, the students will answer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e line is represented by which var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intercept is the point where the graph crosses the y-axis. What is the x-coordinate of the y-intercept? Why will this always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coordinate of the y-intercept is represented by which variable in the slope-intercept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the students in this group will complete the following tasks given equations in slope-intercep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lope and the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lope to count rise and run in order to find the second and third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he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43:39Z</dcterms:created>
  <dc:creator>CABELL BOE</dc:creator>
  <dc:description/>
  <dc:language>en-US</dc:language>
  <cp:lastModifiedBy>CABELL BOE</cp:lastModifiedBy>
  <dcterms:modified xsi:type="dcterms:W3CDTF">2009-06-01T15:43:41Z</dcterms:modified>
  <cp:revision>1</cp:revision>
  <dc:subject/>
  <dc:title>Graphing with a Point and a Slope</dc:title>
</cp:coreProperties>
</file>